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BF8218-BF11-44C2-9459-E423CDE35AF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This lesson will take 1 – 2 hou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585811-F347-4F68-ABDF-23B3358D2E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340CCB-0BAA-4611-9C71-D8C7A92A14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FEB72F-15C8-41EC-9FF0-4E662894EF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ould dictate the true-false sentences first, then learners could look at the slide to check. Then they discuss whether they are true or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4BC925-653B-4230-816C-FC4866CFE5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KEY: 1 – F(1.2 billion)  2-T  3-F(training)  4-F(60%)  5-T  6-F(opposite: 8X more likely for women)  7-T  8-F(16 million)  9-T  10-F(pregnancy and childbi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BFF8A4-74DD-486A-9448-AD6A94C3EA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ould print out both texts and give one to each half of the class and do this as a jigsaw-reading – or all students could read both tex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58EF28-5510-4BFC-9C3D-AD720794D6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7FCF-F7A9-47BB-86EE-0E2316E147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CBB3C-9C79-40B6-94F9-5CA5E757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7FF2C-A483-4D3C-861E-14D2CF06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58B6A-FF23-4CB6-97B7-6318CFFC06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12173-FF8D-454D-A597-2790CF44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974A6-7132-4838-B96F-0663AE64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56BE9-B149-41A7-A8AB-A3756373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1C2EC-B024-46B1-97A5-0FD04D9F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BA1DB-1471-4336-8AC3-D2278B4F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8335-5EA2-401E-AC82-9C67FEC5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783BC-2CF9-4F83-A974-A0179191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E784F-F109-4141-95CD-2F6A1444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D4C45D-6940-4599-9E91-0F947F0A09CD}" type="slidenum">
              <a: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wint.org/features/2012/10/01/n456_infographic.j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Young_people_becoming_more_important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0" spc="-1" strike="noStrike">
                <a:solidFill>
                  <a:srgbClr val="7030a0"/>
                </a:solidFill>
                <a:latin typeface="Calibri"/>
              </a:rPr>
              <a:t>Youth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149720"/>
            <a:ext cx="6400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22320"/>
            <a:ext cx="811548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600200"/>
            <a:ext cx="4038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1600200"/>
            <a:ext cx="4038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ue or false? Discu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125360"/>
            <a:ext cx="87854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are 1 billion youths in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1% of the youth labour force is unemployed in Spain in 201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NEET” stands for “Neither in Employment, Education or Travel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is 50% youth unemployment in Af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44% of 15 – 24 year olds are underweight in Ind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 Sub-Saharan Africa, young men are up to 8 x more likely than young women to be HIV positi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legal marrying age in Iran is 13 for girls and 15 for boy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 million adolescent girls become mothers every year around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youth literacy rate is 74% in Africa, and 97% in Latin Ame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biggest killer of girls aged 15 – 19 is dise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37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Now check the facts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76640"/>
            <a:ext cx="82296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8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www.newint.org/features/2012/10/01/n456_infographic.jp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89000"/>
            <a:ext cx="82296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young people doing to help the world chang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429000"/>
            <a:ext cx="8229600" cy="32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se two easier English texts to find 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eewiki.newint.org/index.php/Young_people_becoming_more_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Giving_up_our_ideals_is_no_longer_an_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84720" y="1989000"/>
            <a:ext cx="2222640" cy="14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llow-up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read the original articles – they will seem much eas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young-people-mcinty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selling-out-youth-laurie-penny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842080" y="4508640"/>
            <a:ext cx="3138480" cy="216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4:05Z</dcterms:created>
  <dc:creator>Mix</dc:creator>
  <dc:description/>
  <dc:language>en-US</dc:language>
  <cp:lastModifiedBy>Mix</cp:lastModifiedBy>
  <dcterms:modified xsi:type="dcterms:W3CDTF">2012-10-28T16:58:13Z</dcterms:modified>
  <cp:revision>5</cp:revision>
  <dc:subject/>
  <dc:title>Youth</dc:title>
</cp:coreProperties>
</file>